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0A08-4085-460B-9A76-CF25DDD6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0542-4EAE-4F81-B2B1-1D040911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2A15-936A-4FBB-9E06-4DF29952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FBB3-815B-4E66-9026-2D061CFF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3D76-DA1D-4C1F-A0B2-EE7B2BED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D111-70CB-40D1-9CD7-244FE637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0E95-2921-4B79-9139-71FB3ECE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08AA-6193-431C-BF85-AA5CAB26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74C0-2C45-40D2-9A51-84B1B7B9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66D0-4E35-4309-8F31-EC976965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B810-82E3-4094-A266-6124BDFC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7CBE-DABC-4799-A539-891083D5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794E-73DB-4861-B02C-C1CB5F27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0E8B-F973-4125-B473-375F57BC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49DE-A99F-4E9C-B15A-9CB09FA0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8263-391A-42BA-9CE8-58BCD018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C96B-C6FE-4FEB-8DC3-CF6B2080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DE99-4B92-496E-B86F-3CBCB3C5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E862-586C-4D4E-8881-FF47961C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BB04-98D7-49A9-9091-BD65B9DF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5095-2E92-4E6E-A2E5-B6FF845B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952F-C4FA-4EF4-ABD4-C5A74588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CC93-7B47-4FAB-8A4F-DA168561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4929-FF36-4CC9-A731-8131A6CC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600"/>
                <a:ext cx="2866320" cy="2269080"/>
                <a:chOff x="6274080" y="-21600"/>
                <a:chExt cx="28663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4160" cy="1140840"/>
                  <a:chOff x="783432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560"/>
                    <a:ext cx="88488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360" y="1602720"/>
                    <a:ext cx="47304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840" y="695880"/>
                  <a:ext cx="1303560" cy="669240"/>
                  <a:chOff x="783684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4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1880" y="1033920"/>
                    <a:ext cx="458280" cy="266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240"/>
                  <a:chOff x="7852680" y="657720"/>
                  <a:chExt cx="122328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4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7400"/>
                    <a:ext cx="425160" cy="25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2680"/>
                    <a:ext cx="720360" cy="10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400"/>
                  <a:ext cx="983520" cy="327240"/>
                  <a:chOff x="7845840" y="419400"/>
                  <a:chExt cx="98352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04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320" y="456120"/>
                    <a:ext cx="34020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5040"/>
                  <a:ext cx="1060920" cy="1141920"/>
                  <a:chOff x="6539040" y="905040"/>
                  <a:chExt cx="106092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200" y="1193040"/>
                    <a:ext cx="8791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120" y="1665720"/>
                    <a:ext cx="4719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120" cy="1051920"/>
                  <a:chOff x="6303960" y="86184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4400" y="1112400"/>
                    <a:ext cx="92880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880" y="1515600"/>
                    <a:ext cx="49932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360"/>
                  <a:chOff x="6287040" y="827280"/>
                  <a:chExt cx="128772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6000" y="1016640"/>
                    <a:ext cx="890280" cy="157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480" y="1321920"/>
                    <a:ext cx="477360" cy="239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840" cy="668520"/>
                  <a:chOff x="6274080" y="787320"/>
                  <a:chExt cx="130284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68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600" y="1123560"/>
                    <a:ext cx="461520" cy="267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880" y="801720"/>
                    <a:ext cx="792000" cy="156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2440"/>
                    <a:ext cx="425160" cy="245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2680"/>
                    <a:ext cx="720360" cy="10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120" y="-21600"/>
                  <a:ext cx="465480" cy="808920"/>
                  <a:chOff x="7287120" y="-21600"/>
                  <a:chExt cx="465480" cy="80892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440" y="60120"/>
                    <a:ext cx="294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440" cy="461160"/>
                  <a:chOff x="7792920" y="273600"/>
                  <a:chExt cx="96444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3480" y="329760"/>
                    <a:ext cx="33336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160"/>
                  <a:ext cx="916200" cy="604440"/>
                  <a:chOff x="7737840" y="137160"/>
                  <a:chExt cx="91620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520"/>
                    <a:ext cx="6350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7640" y="212760"/>
                    <a:ext cx="3358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0800"/>
                  <a:ext cx="497160" cy="789840"/>
                  <a:chOff x="7666200" y="-10800"/>
                  <a:chExt cx="497160" cy="78984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6560"/>
                    <a:ext cx="542520" cy="95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880" y="79200"/>
                    <a:ext cx="29304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400" y="930240"/>
                  <a:ext cx="914760" cy="1248120"/>
                  <a:chOff x="6710400" y="930240"/>
                  <a:chExt cx="914760" cy="124812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5840" y="1258200"/>
                    <a:ext cx="88956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560" y="1785960"/>
                    <a:ext cx="47736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320" cy="1248480"/>
                  <a:chOff x="7015320" y="979200"/>
                  <a:chExt cx="61632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9040" y="1310040"/>
                    <a:ext cx="8233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880" y="1852200"/>
                    <a:ext cx="4363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4320" y="1376640"/>
                    <a:ext cx="75240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840" y="1899360"/>
                    <a:ext cx="40716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960" y="1402560"/>
                    <a:ext cx="74016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000" y="1928520"/>
                    <a:ext cx="39636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4D07-43CC-4276-A4B6-AD1D2DF8E74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360"/>
              <a:ext cx="945720" cy="709920"/>
              <a:chOff x="3484080" y="95436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3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61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4320"/>
                  <a:ext cx="3599280" cy="2650680"/>
                  <a:chOff x="3735720" y="1264320"/>
                  <a:chExt cx="3599280" cy="26506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432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600"/>
                    <a:ext cx="712440" cy="49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000" y="2321280"/>
                    <a:ext cx="2560680" cy="2739960"/>
                    <a:chOff x="5760000" y="2321280"/>
                    <a:chExt cx="2560680" cy="273996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520" y="3019320"/>
                      <a:ext cx="212868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1800"/>
                      <a:ext cx="11401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4160"/>
                    <a:ext cx="3039840" cy="2530440"/>
                    <a:chOff x="5787720" y="2144160"/>
                    <a:chExt cx="3039840" cy="25304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47520"/>
                      <a:ext cx="2235600" cy="426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1808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1000"/>
                    <a:ext cx="3097800" cy="1994760"/>
                    <a:chOff x="5774760" y="2061000"/>
                    <a:chExt cx="3097800" cy="199476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320" y="2516760"/>
                      <a:ext cx="214056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396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7040"/>
                    <a:ext cx="3134160" cy="1608840"/>
                    <a:chOff x="5767920" y="1967040"/>
                    <a:chExt cx="3134160" cy="160884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0880" y="2276280"/>
                      <a:ext cx="2067480" cy="413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1280"/>
                      <a:ext cx="1110600" cy="648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4880"/>
                    <a:ext cx="2939040" cy="1004400"/>
                    <a:chOff x="5805720" y="1874880"/>
                    <a:chExt cx="2939040" cy="100440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0880"/>
                      <a:ext cx="190368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09320"/>
                      <a:ext cx="102312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4400"/>
                    <a:ext cx="2658600" cy="442800"/>
                    <a:chOff x="5851440" y="1814400"/>
                    <a:chExt cx="2658600" cy="44280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4896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120" y="1825920"/>
                      <a:ext cx="92952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2480"/>
                    <a:ext cx="2364120" cy="784080"/>
                    <a:chOff x="5788440" y="1302480"/>
                    <a:chExt cx="236412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4880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1040"/>
                      <a:ext cx="816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000" y="2471040"/>
                    <a:ext cx="2557440" cy="2742480"/>
                    <a:chOff x="2646000" y="2471040"/>
                    <a:chExt cx="2557440" cy="274248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2600" y="3168720"/>
                      <a:ext cx="21276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000" y="4293000"/>
                      <a:ext cx="11426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040" y="2364840"/>
                    <a:ext cx="3039840" cy="2532240"/>
                    <a:chOff x="2084040" y="2364840"/>
                    <a:chExt cx="3039840" cy="253224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7480"/>
                      <a:ext cx="2234160" cy="42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7920" y="3939840"/>
                      <a:ext cx="1199880" cy="673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79160"/>
                    <a:ext cx="3096720" cy="1992600"/>
                    <a:chOff x="2040480" y="2279160"/>
                    <a:chExt cx="309672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492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680" y="3459240"/>
                      <a:ext cx="1149120" cy="587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5560"/>
                    <a:ext cx="3134160" cy="1608840"/>
                    <a:chOff x="2010960" y="2185560"/>
                    <a:chExt cx="3134160" cy="160884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240" y="2494800"/>
                      <a:ext cx="206784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89440"/>
                      <a:ext cx="1110600" cy="649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4840"/>
                    <a:ext cx="2937240" cy="1002960"/>
                    <a:chOff x="2167560" y="2094840"/>
                    <a:chExt cx="2937240" cy="100296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20840"/>
                      <a:ext cx="19036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9280"/>
                      <a:ext cx="1023120" cy="602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27880"/>
                    <a:ext cx="2658600" cy="448920"/>
                    <a:chOff x="2403720" y="2027880"/>
                    <a:chExt cx="2658600" cy="4489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460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39040"/>
                      <a:ext cx="929520" cy="425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18480"/>
                    <a:ext cx="2364120" cy="788760"/>
                    <a:chOff x="2760480" y="1518480"/>
                    <a:chExt cx="2364120" cy="78876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69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7040"/>
                      <a:ext cx="81612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5520"/>
                    <a:ext cx="2323440" cy="1081800"/>
                    <a:chOff x="2887560" y="1235520"/>
                    <a:chExt cx="2323440" cy="108180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48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69440"/>
                      <a:ext cx="816120" cy="414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26560"/>
                    <a:ext cx="2170080" cy="1507320"/>
                    <a:chOff x="3161160" y="826560"/>
                    <a:chExt cx="2170080" cy="150732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682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1808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6920" y="434520"/>
                    <a:ext cx="1987920" cy="1829160"/>
                    <a:chOff x="3436920" y="434520"/>
                    <a:chExt cx="1987920" cy="182916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688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640" y="664560"/>
                      <a:ext cx="828360" cy="418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25800"/>
                    <a:ext cx="1463400" cy="1892880"/>
                    <a:chOff x="4026960" y="325800"/>
                    <a:chExt cx="1463400" cy="18928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39640"/>
                      <a:ext cx="135972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3640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7800" y="245520"/>
                    <a:ext cx="1124280" cy="1947960"/>
                    <a:chOff x="4447800" y="245520"/>
                    <a:chExt cx="1124280" cy="194796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2560"/>
                      <a:ext cx="13089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480" y="440640"/>
                      <a:ext cx="70344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7160"/>
                    <a:ext cx="2318760" cy="1113840"/>
                    <a:chOff x="5661720" y="947160"/>
                    <a:chExt cx="2318760" cy="11138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19200"/>
                      <a:ext cx="151992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540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19920"/>
                    <a:ext cx="2202120" cy="1452600"/>
                    <a:chOff x="5529600" y="619920"/>
                    <a:chExt cx="2202120" cy="14526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4160"/>
                      <a:ext cx="151992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4600"/>
                      <a:ext cx="817560" cy="418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040" y="1461600"/>
                    <a:ext cx="126612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5920" y="533520"/>
                    <a:ext cx="68004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8240" y="267840"/>
                    <a:ext cx="1191600" cy="1898280"/>
                    <a:chOff x="5358240" y="267840"/>
                    <a:chExt cx="1191600" cy="189828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9320" y="1413720"/>
                      <a:ext cx="1309320" cy="226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3840"/>
                      <a:ext cx="70308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0680" y="382680"/>
                    <a:ext cx="1889640" cy="1795680"/>
                    <a:chOff x="5350680" y="382680"/>
                    <a:chExt cx="1889640" cy="179568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0600" y="1381320"/>
                      <a:ext cx="1426320" cy="33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960" y="579600"/>
                      <a:ext cx="76752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160"/>
                    <a:ext cx="425520" cy="1794960"/>
                    <a:chOff x="5459040" y="290160"/>
                    <a:chExt cx="425520" cy="179496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2160"/>
                      <a:ext cx="117720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760" y="530640"/>
                      <a:ext cx="63036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6840"/>
                    <a:ext cx="2194200" cy="3005640"/>
                    <a:chOff x="3063240" y="2526840"/>
                    <a:chExt cx="2194200" cy="300564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6760" y="3312720"/>
                      <a:ext cx="213012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40120" cy="604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0440" y="2646720"/>
                    <a:ext cx="1481760" cy="3003480"/>
                    <a:chOff x="3790440" y="2646720"/>
                    <a:chExt cx="1481760" cy="30034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6440" y="3438360"/>
                      <a:ext cx="1968120" cy="38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1840" y="4745160"/>
                      <a:ext cx="105624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560" y="2695320"/>
                    <a:ext cx="876600" cy="2932200"/>
                    <a:chOff x="4507560" y="2695320"/>
                    <a:chExt cx="876600" cy="29322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5280" y="3483000"/>
                      <a:ext cx="189072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5720" y="4805280"/>
                      <a:ext cx="1013040" cy="54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560" y="2480400"/>
                    <a:ext cx="2280960" cy="2954160"/>
                    <a:chOff x="5677560" y="2480400"/>
                    <a:chExt cx="2280960" cy="295416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4400" y="3248280"/>
                      <a:ext cx="212760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120" y="4496400"/>
                      <a:ext cx="11401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600" y="2591640"/>
                    <a:ext cx="1756800" cy="3031200"/>
                    <a:chOff x="5646600" y="2591640"/>
                    <a:chExt cx="1756800" cy="303120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3560" y="3394080"/>
                      <a:ext cx="2035080" cy="369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120" y="4718880"/>
                      <a:ext cx="108972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06840"/>
                    <a:ext cx="1228680" cy="2990520"/>
                    <a:chOff x="5576400" y="2706840"/>
                    <a:chExt cx="1228680" cy="29905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38440"/>
                      <a:ext cx="197316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600" y="4880880"/>
                      <a:ext cx="105984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800"/>
                    <a:ext cx="696600" cy="2783520"/>
                    <a:chOff x="5521320" y="2836800"/>
                    <a:chExt cx="696600" cy="27835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432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480" y="4866120"/>
                      <a:ext cx="97488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3680" y="2883600"/>
                    <a:ext cx="664560" cy="2716920"/>
                    <a:chOff x="4963680" y="2883600"/>
                    <a:chExt cx="664560" cy="271692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200" y="3661920"/>
                      <a:ext cx="177444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8160" y="4926240"/>
                      <a:ext cx="951120" cy="36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7880"/>
                <a:ext cx="6732720" cy="4526280"/>
                <a:chOff x="2174400" y="677880"/>
                <a:chExt cx="6732720" cy="452628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7880"/>
                  <a:ext cx="6732720" cy="4526280"/>
                  <a:chOff x="2174400" y="677880"/>
                  <a:chExt cx="6732720" cy="452628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1760"/>
                    <a:ext cx="3166560" cy="25275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8360"/>
                    <a:ext cx="2486880" cy="29358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8880"/>
                    <a:ext cx="1758240" cy="29368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4920"/>
                    <a:ext cx="3133440" cy="29368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77880"/>
                    <a:ext cx="2282760" cy="284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2360"/>
                    <a:ext cx="940680" cy="284328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0880"/>
                    <a:ext cx="515160" cy="18806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560" y="2179440"/>
                  <a:ext cx="546120" cy="103284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30080"/>
              <a:ext cx="6411960" cy="4710960"/>
              <a:chOff x="2343960" y="730080"/>
              <a:chExt cx="6411960" cy="47109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53680"/>
                <a:ext cx="598320" cy="18248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8120"/>
                <a:ext cx="2617200" cy="2842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40200"/>
                <a:ext cx="1534320" cy="29358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6800"/>
                <a:ext cx="2930760" cy="293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9000"/>
                <a:ext cx="469800" cy="29358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4960"/>
                <a:ext cx="1238040" cy="293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65800"/>
                <a:ext cx="598320" cy="18248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7200" y="2964960"/>
                <a:ext cx="543600" cy="10342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403080"/>
                <a:ext cx="1338480" cy="1880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16240"/>
                <a:ext cx="858240" cy="1880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26600"/>
                <a:ext cx="1242000" cy="1974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27960"/>
                <a:ext cx="1872360" cy="1316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30080"/>
                <a:ext cx="819000" cy="17694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72600"/>
                <a:ext cx="542880" cy="103284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3D73-11C9-4565-A06D-0994BD0EBC8E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23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Имена существительные собственные и нарицательные.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Студентки 4 курс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филологического факультета КГП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Кузнецовой Светланы Владимировн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2286000" y="57913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Monotype Corsiva"/>
              </a:rPr>
              <a:t>Сыктывкар 201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19760" cy="21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Основополагающий вопрос проекта:</a:t>
            </a:r>
            <a:br>
              <a:rPr sz="4000"/>
            </a:b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2895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cc00"/>
                </a:solidFill>
                <a:uFillTx/>
                <a:latin typeface="Monotype Corsiva"/>
              </a:rPr>
              <a:t>Что такое имя?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Что мы узнаем?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Monotype Corsiva"/>
              </a:rPr>
              <a:t>Что такое имя существительное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Monotype Corsiva"/>
              </a:rPr>
              <a:t>Чем отличаются собственные и нарицательные имена существительные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Monotype Corsiva"/>
              </a:rPr>
              <a:t>Как на письме различить собственные и нарицательные имена существительные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Дидактические цели проекта: 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Arial"/>
              </a:rPr>
              <a:t>Развитие устной и письменной речи учащихс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Arial"/>
              </a:rPr>
              <a:t>Формирование знаний о собственных и нарицательных именах существительных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6868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едставление результатов исследований: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Презентация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Кроссворд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Творческая презентация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Создание карточек, таблиц, схем;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6104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одолжительность проекта: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08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время выполнения: две недели;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количество часов:</a:t>
            </a: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 3;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количество уроков:</a:t>
            </a: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 3;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104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Этапы проведения  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оекта: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22096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Monotype Corsiva"/>
              </a:rPr>
              <a:t>выбор ,  формулировка темы;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Monotype Corsiva"/>
              </a:rPr>
              <a:t>поиск информации;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Monotype Corsiva"/>
              </a:rPr>
              <a:t>самостоятельная работа учащихся;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Monotype Corsiva"/>
              </a:rPr>
              <a:t>защита проекта;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22160" y="1600200"/>
            <a:ext cx="77724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HTTP://WWW.TRAKTAT.COM/LANGUAGE/BOOK/SUSH/SOB.PHP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HTTP://RUSGRAM.NAROD.RU/1121-1146.HTML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HTTP://RU.WIKIPEDIA.ORG/WIKI/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РИЦАТЕЛЬНОЕ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HTTP://WWW.RUSSISCH-FUER-KINDER.DE/DE_START/SCHULE/TEXTE.PHP?AUSWAHL=IS_SOBSTVENNYJE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2216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Информационные ресурсы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0-04-28T15:54:42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